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0410-2236-4E30-8F66-78B0D8E1D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Compagnie Universelle du Canal Interocea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11 miles out of 50 d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pent over $287 million as opposed to original quote of $132 million in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 bought rights to French canal property and equipment for no more than $40 mi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BAF3-BC5E-4F5F-B27D-C03644330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DA90-6DE3-4841-BF7D-B2DE00C23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umbia wanted the U.S. to pay a fee because the Isthmus of Panama was located in Columb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.S. aided the rebels to avoid paying fee to Columb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9518-E9A5-4E5E-AC24-F4C81C4B9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years of labor, 39 miles l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7045-0EF6-4A1D-8078-7F24C1F85C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whelmingly 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8618-81B3-4976-9785-C4636BBC5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E80-4612-4E81-AEE5-172272ED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02C-2523-4736-911E-1D013A7E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AB6-2348-480C-B255-8C014C83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3E6-72D5-47E0-AC08-910C7B0A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D513-152C-4D5D-BBFE-14CD86ED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A5AE-BBEC-4CA7-A305-CC62425A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132B-9C67-4990-9125-091FE572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D35B-C4B8-4C4D-B398-122727F6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26AA-2AAD-4C8F-8806-B8318758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D8B8-8C91-4D9F-92D2-298A191A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57CB-A268-4422-9785-94627E19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8B7-B1B5-4F9D-B3D4-DDB1969B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5DE0-215E-4792-BC1B-F9241980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3DB8-38C5-484E-B9CF-8CCDC359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6EA7-85BA-4618-B825-7B8E087D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6369-B162-4C0E-AB2A-226288F7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5731-5F15-436D-A0C8-CCD7DB04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127E5-0833-4E63-8BAF-AC3B97B1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F034F-88F9-45A1-82AC-380FE125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7965A-347B-4706-A522-B210A6B0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789A8-9DF8-4261-B505-2033BD96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06863-04A6-4532-BB43-06623B43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DF7-D0F6-4ED0-A08D-557BE0CE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A1213-CABE-484F-82AD-291FC926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19DB7-1623-4102-BB3E-61C55561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36D7F-F222-43E5-ADE8-952D0400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74A5D-5E95-463A-A605-A64F2801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12AE6-A54C-4EE8-8337-2DD16B2A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8A61E-C427-4B5A-A817-A0D22888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BA53-5B6F-413F-95F2-C75E34B4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DB651-D04C-4307-9227-245D4587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89FDD-6A32-4154-8CF3-8EBE0005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EB398-308C-458C-989A-326B660C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CED-0AE1-483C-82CF-EB984CE9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FD7B6-8FEE-4F3D-A661-9EE65E67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F0FED-E5F4-4E85-8AD0-70E7680D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BD624-D085-442A-B663-F9E8051A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C8DE4-BAC1-44C2-8600-BB920DB0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07BBA-3A64-4C82-9338-DE503170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441EB-7459-418C-88EC-5A0DA3A8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69941-2E37-41E0-A3E5-1978A341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64B2F-9ECA-4C94-849B-F2051D7B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1324C-4C71-4098-9712-56364CAF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D482C-FB69-43ED-9F7C-B8F5EC5D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F8D-B9E4-4E30-85E1-93800B46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9BD3D-382C-4F4E-B928-6B275143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6AEFB-746E-4576-85E1-9AA509C1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F577D-C4AF-46A2-879E-70399F0B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33D55-D64D-4479-998F-9E9604A1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7CECC-16D8-47E4-A55E-29383AE2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8CAF4-84BB-4A31-80C3-2E35054C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9C25D-3107-4A49-B91F-C668230D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F2469-DFBC-4DA8-AD0D-27F2610C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9C5EC-14A0-4AB8-B95B-E8DDBA54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B452B-59DA-4F2E-B926-45A02982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409-1AC8-40F2-98D9-0DC545DA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CDB6F-FF7A-4C93-A81E-4F061014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437FE-9A83-42BA-A0C9-54D659C2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F8135-36EB-4B9C-964F-51F7647A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C3C8B-487B-445B-B8B1-56E850DD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C0570-6523-42C5-AEE4-9A7A1CAF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391B9-5E73-4BCE-A0ED-B2C6A5B9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09E55-7246-41D0-84CA-3B6A6F5D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ABC51-C32E-4367-B0C3-10836708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EE7ED-C813-4343-A186-CB65182E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1641E-8EF6-44CB-8C08-40EE858A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652-A134-4ACA-A63F-EB7EBCBB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B571E-B464-4633-B64A-0586C033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E7797-FE23-4C08-9097-4A5C066C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DC23F-C027-4E20-9547-AA0CE277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724F1-6338-46DC-A4E1-923416C8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8CCDE-D14B-4FB2-B930-29A12BD5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25D3E-16DF-4DA7-989F-A445E7C3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5F032-F9E7-4D4C-A361-C55AD51F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32FC3-3DCF-42E2-AAF8-7F243C41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43686-F7E3-4481-9701-595BF09D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1F4C0-E4C5-4E46-A75E-C9954803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9B71-0EF1-43F2-8CC8-802E2504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CB6A0-DAB4-4DB9-9160-6D5978E5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BE3A0-E1B4-4D4F-B8BE-22760BF2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3345F-C1E8-4785-8084-2DC4B0D3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64C0F-AF87-4BFE-AA30-218D1491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FB7BC-CFFE-4E06-9DAF-AF7BCA32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52842-6E4D-48F7-8F8C-689ABF38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DC5B9-E459-4CEE-90BA-1B1BBB0A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7E214-D5F3-4D02-BB35-19BA242E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15D66-A2BA-44ED-9267-A6B1C7AC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70C96-E995-4FFE-9784-091CFCB1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C30-6C19-4FFB-8402-825DE5FE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802E7-0472-48C7-9B7C-FBC1749E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D0D9F-2EC7-40FD-8FF6-15FDE886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2F482-3A58-4E22-8430-F087D248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A1889-9DF7-4F9E-9C1D-9CC7D747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CAE92-FFD9-41EE-BF48-903F4D36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00E94-0CA4-4FDC-A349-09768190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E6E93-5EA5-43FC-8D45-C95FC5F8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A5EC-5962-4E67-A7E4-6106CEEA14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66A8-65FE-4CA3-934D-3B9EEC44C8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7CF7-5D95-4426-AD8E-61A105C482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B7AF-8F14-4FA2-BBE5-E9857E8B0F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E667-6D62-4FA3-AA44-53B621D25A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8C21-DC53-48C6-956D-5FAAABB31E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CC09-43B3-445E-A95A-CCB45B9D84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29EC-D0C8-47EF-BA92-269B108B9F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03360" y="298440"/>
            <a:ext cx="7785000" cy="1494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6840" y="182844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During his presidency, what was considered to be Teddy Roosevelt's greatest achievement? Was it a positive or negative change for the U.S.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TextBox 3"/>
          <p:cNvSpPr/>
          <p:nvPr/>
        </p:nvSpPr>
        <p:spPr>
          <a:xfrm>
            <a:off x="457200" y="56386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Mike Beatty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ddy considered as his greatest achiev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gan in 1881 by Ferdinand de Lessep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ded unfinished in 1888 due to thousands of deaths by dise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ce President, TR bought rights to proper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.S. Navy travel shorter dist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rong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ore Flexi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eaper and quicker for shipping goo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umbia demanded f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bels form Republic of Pan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.S. aid rebe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.S. pays $10 million to Pan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ights to the can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5-mile-wide zone of land on either side of the can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ease: Mosquito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r. William Gorgas plan = very successfu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$128 million sp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s opposed to $287 million spent by French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27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ositiv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Negativ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Shorter route for ship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Cheap and swift travel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U.S. Navy – strengthened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Saved Navy money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Provided Job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Creation of Panama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Supported Panama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1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Income taxes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1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Security fees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1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Educational insurance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Still in operation today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ath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oney spent/lost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1:44:59Z</dcterms:created>
  <dc:creator>Mom &amp; Dad's Office</dc:creator>
  <dc:description/>
  <dc:language>en-US</dc:language>
  <cp:lastModifiedBy>Mom &amp; Dad's Office</cp:lastModifiedBy>
  <dcterms:modified xsi:type="dcterms:W3CDTF">2008-06-04T01:57:21Z</dcterms:modified>
  <cp:revision>8</cp:revision>
  <dc:subject/>
  <dc:title>Slide 1</dc:title>
</cp:coreProperties>
</file>